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3.gif" ContentType="image/gif"/>
  <Override PartName="/ppt/media/image16.png" ContentType="image/png"/>
  <Override PartName="/ppt/media/image25.jpeg" ContentType="image/jpeg"/>
  <Override PartName="/ppt/media/image32.png" ContentType="image/png"/>
  <Override PartName="/ppt/media/image22.gif" ContentType="image/gif"/>
  <Override PartName="/ppt/media/image21.png" ContentType="image/png"/>
  <Override PartName="/ppt/media/image19.wmf" ContentType="image/x-wmf"/>
  <Override PartName="/ppt/media/image17.gif" ContentType="image/gif"/>
  <Override PartName="/ppt/media/image13.wmf" ContentType="image/x-wmf"/>
  <Override PartName="/ppt/media/image15.wmf" ContentType="image/x-wmf"/>
  <Override PartName="/ppt/media/image3.gif" ContentType="image/gif"/>
  <Override PartName="/ppt/media/image33.gif" ContentType="image/gif"/>
  <Override PartName="/ppt/media/image28.wmf" ContentType="image/x-wmf"/>
  <Override PartName="/ppt/media/image5.png" ContentType="image/png"/>
  <Override PartName="/ppt/media/image2.gif" ContentType="image/gif"/>
  <Override PartName="/ppt/media/image30.gif" ContentType="image/gif"/>
  <Override PartName="/ppt/media/image36.wmf" ContentType="image/x-wmf"/>
  <Override PartName="/ppt/media/image37.wmf" ContentType="image/x-wmf"/>
  <Override PartName="/ppt/media/image35.gif" ContentType="image/gif"/>
  <Override PartName="/ppt/media/image38.wmf" ContentType="image/x-wmf"/>
  <Override PartName="/ppt/media/image40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3.wmf" ContentType="image/x-wmf"/>
  <Override PartName="/ppt/media/image45.png" ContentType="image/png"/>
  <Override PartName="/ppt/media/image10.png" ContentType="image/png"/>
  <Override PartName="/ppt/media/image46.wmf" ContentType="image/x-wmf"/>
  <Override PartName="/ppt/media/image47.wmf" ContentType="image/x-wmf"/>
  <Override PartName="/ppt/media/image12.wmf" ContentType="image/x-wmf"/>
  <Override PartName="/ppt/media/image42.wmf" ContentType="image/x-wmf"/>
  <Override PartName="/ppt/media/image9.png" ContentType="image/png"/>
  <Override PartName="/ppt/media/image6.gif" ContentType="image/gif"/>
  <Override PartName="/ppt/media/image4.png" ContentType="image/png"/>
  <Override PartName="/ppt/media/image34.png" ContentType="image/png"/>
  <Override PartName="/ppt/media/image7.gif" ContentType="image/gif"/>
  <Override PartName="/ppt/media/image18.wmf" ContentType="image/x-wmf"/>
  <Override PartName="/ppt/media/image24.gif" ContentType="image/gif"/>
  <Override PartName="/ppt/media/image20.wmf" ContentType="image/x-wmf"/>
  <Override PartName="/ppt/media/image44.wmf" ContentType="image/x-wmf"/>
  <Override PartName="/ppt/media/image1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3F6C-5B22-4175-8C57-536124D0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589-938F-48B2-896A-C2642492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1BC-F3D5-4682-8DD3-300FACA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C59-1DF3-484F-B038-5EC96AFF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D48-AB83-4A96-885C-DF42EF6B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6C1-9435-42C2-9439-000F4D64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8AC-0AA9-45A9-8B7D-714FDFD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4D7-CEA4-4F98-AB98-861C224A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B3E-85E0-4697-B287-8E36D90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EEC-61FD-47FE-9DD9-49EC6BA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EDD-65E3-4399-8E59-7FFED10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7DD-AE68-40F4-8E3A-1B547645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75B-E7A7-4D2F-A4BD-590F639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F4C-339A-4944-9DC5-896D25D4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2.gi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cool.com/photo/show/371/32671.htm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p2.iecool.com/show/46/3995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28760" y="2185920"/>
            <a:ext cx="675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1.2.4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绝对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11320" y="2495520"/>
            <a:ext cx="76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这里的数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可以表示什么样的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95360" y="49006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的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是正数，负数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17760" y="642960"/>
            <a:ext cx="3519360" cy="1185840"/>
            <a:chOff x="2417760" y="642960"/>
            <a:chExt cx="3519360" cy="118584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984920" y="64296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Cloud"/>
            <p:cNvSpPr/>
            <p:nvPr/>
          </p:nvSpPr>
          <p:spPr>
            <a:xfrm>
              <a:off x="2417760" y="64296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38320" y="79524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76160" y="3429000"/>
            <a:ext cx="123840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69840" y="1909800"/>
            <a:ext cx="7686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红由图得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绝对值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你认为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61840" y="4111560"/>
            <a:ext cx="6985080" cy="1541880"/>
            <a:chOff x="861840" y="4111560"/>
            <a:chExt cx="6985080" cy="1541880"/>
          </a:xfrm>
        </p:grpSpPr>
        <p:sp>
          <p:nvSpPr>
            <p:cNvPr id="175" name=""/>
            <p:cNvSpPr/>
            <p:nvPr/>
          </p:nvSpPr>
          <p:spPr>
            <a:xfrm>
              <a:off x="861840" y="5000400"/>
              <a:ext cx="698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88620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67820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7020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6256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05456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9528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0328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582560" y="492912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97120" y="507204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89120" y="507204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9840" y="507204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02200" y="50720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4200" y="50720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9120" y="507204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25480" y="507204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4760" y="507204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78200" y="4371840"/>
              <a:ext cx="0" cy="55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4560" y="4371840"/>
              <a:ext cx="0" cy="55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78200" y="4697280"/>
              <a:ext cx="2376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45840" y="411156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长度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97120" y="409680"/>
            <a:ext cx="3519360" cy="1185840"/>
            <a:chOff x="2697120" y="409680"/>
            <a:chExt cx="3519360" cy="11858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5264280" y="4096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Cloud"/>
            <p:cNvSpPr/>
            <p:nvPr/>
          </p:nvSpPr>
          <p:spPr>
            <a:xfrm>
              <a:off x="2697120" y="4096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217680" y="5619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2521080" y="189000"/>
            <a:ext cx="3519360" cy="1185840"/>
            <a:chOff x="2521080" y="189000"/>
            <a:chExt cx="3519360" cy="118584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5088240" y="18900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Cloud"/>
            <p:cNvSpPr/>
            <p:nvPr/>
          </p:nvSpPr>
          <p:spPr>
            <a:xfrm>
              <a:off x="2521080" y="18900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041640" y="34128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04640" y="3994200"/>
            <a:ext cx="6088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对值是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数有两个，各是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绝对值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800" y="1374840"/>
            <a:ext cx="7440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绝对值是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数有几个？各是什么？有没有绝对值是－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93920" y="4183200"/>
            <a:ext cx="393840" cy="4921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34120" y="4167360"/>
            <a:ext cx="609840" cy="4921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88040" y="4151160"/>
            <a:ext cx="393840" cy="4921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465280" y="3422520"/>
            <a:ext cx="3922560" cy="728640"/>
            <a:chOff x="2465280" y="3422520"/>
            <a:chExt cx="3922560" cy="728640"/>
          </a:xfrm>
        </p:grpSpPr>
        <p:sp>
          <p:nvSpPr>
            <p:cNvPr id="210" name=""/>
            <p:cNvSpPr/>
            <p:nvPr/>
          </p:nvSpPr>
          <p:spPr>
            <a:xfrm>
              <a:off x="2481120" y="3422520"/>
              <a:ext cx="3906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5280" y="3422520"/>
              <a:ext cx="0" cy="72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7840" y="3422520"/>
              <a:ext cx="0" cy="72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03160" y="4671720"/>
            <a:ext cx="4761360" cy="1108080"/>
            <a:chOff x="2603160" y="4671720"/>
            <a:chExt cx="4761360" cy="1108080"/>
          </a:xfrm>
        </p:grpSpPr>
        <p:sp>
          <p:nvSpPr>
            <p:cNvPr id="214" name=""/>
            <p:cNvSpPr/>
            <p:nvPr/>
          </p:nvSpPr>
          <p:spPr>
            <a:xfrm flipH="1">
              <a:off x="2603160" y="5779800"/>
              <a:ext cx="4761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364520" y="4671720"/>
              <a:ext cx="0" cy="1102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604960" y="4673880"/>
              <a:ext cx="0" cy="1102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645000" y="5353200"/>
            <a:ext cx="2886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负数的绝对值是它的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32160" y="2949480"/>
            <a:ext cx="2467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正数的绝对值是它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936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62240" y="2168640"/>
            <a:ext cx="74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绝对值小于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整数一共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1000" y="4108320"/>
            <a:ext cx="3331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绝对值小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整数一共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们分别是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757600" y="654120"/>
            <a:ext cx="3519360" cy="1185840"/>
            <a:chOff x="2757600" y="654120"/>
            <a:chExt cx="3519360" cy="118584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324760" y="65412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Cloud"/>
            <p:cNvSpPr/>
            <p:nvPr/>
          </p:nvSpPr>
          <p:spPr>
            <a:xfrm>
              <a:off x="2757600" y="65412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278160" y="80640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77760" y="2876400"/>
            <a:ext cx="1152720" cy="1317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479760" y="917640"/>
            <a:ext cx="2770200" cy="947520"/>
            <a:chOff x="3479760" y="917640"/>
            <a:chExt cx="2770200" cy="947520"/>
          </a:xfrm>
        </p:grpSpPr>
        <p:sp>
          <p:nvSpPr>
            <p:cNvPr id="228" name=""/>
            <p:cNvSpPr txBox="1"/>
            <p:nvPr/>
          </p:nvSpPr>
          <p:spPr>
            <a:xfrm>
              <a:off x="3479760" y="114120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343480" y="91764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896760" y="2732040"/>
            <a:ext cx="7672680" cy="2068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个正数的绝对值是它本身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个负数的绝对值是它的相反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绝对值是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1360" y="3059280"/>
            <a:ext cx="75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当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当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当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59440" y="4211640"/>
            <a:ext cx="2487600" cy="743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00200" y="2189160"/>
            <a:ext cx="585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上述三条也可表述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332160"/>
            <a:ext cx="393840" cy="2365200"/>
          </a:xfrm>
          <a:custGeom>
            <a:avLst/>
            <a:gdLst>
              <a:gd name="textAreaLeft" fmla="*/ 0 w 393840"/>
              <a:gd name="textAreaRight" fmla="*/ 142200 w 393840"/>
              <a:gd name="textAreaTop" fmla="*/ 61560 h 2365200"/>
              <a:gd name="textAreaBottom" fmla="*/ 2303640 h 23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189240" y="750960"/>
            <a:ext cx="2770200" cy="947520"/>
            <a:chOff x="3189240" y="750960"/>
            <a:chExt cx="2770200" cy="947520"/>
          </a:xfrm>
        </p:grpSpPr>
        <p:sp>
          <p:nvSpPr>
            <p:cNvPr id="236" name=""/>
            <p:cNvSpPr txBox="1"/>
            <p:nvPr/>
          </p:nvSpPr>
          <p:spPr>
            <a:xfrm>
              <a:off x="3189240" y="97452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5052960" y="7509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11320" y="2649600"/>
            <a:ext cx="57801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1219320" y="406440"/>
            <a:ext cx="2620800" cy="852480"/>
            <a:chOff x="1219320" y="406440"/>
            <a:chExt cx="2620800" cy="852480"/>
          </a:xfrm>
        </p:grpSpPr>
        <p:sp>
          <p:nvSpPr>
            <p:cNvPr id="240" name=""/>
            <p:cNvSpPr/>
            <p:nvPr/>
          </p:nvSpPr>
          <p:spPr>
            <a:xfrm>
              <a:off x="1687680" y="465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1219320" y="406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873000" y="1774800"/>
            <a:ext cx="700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出下列各数的绝对值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59840" y="4562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54120" y="456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89280" y="456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59320" y="4562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3535200" y="4264200"/>
            <a:ext cx="435240" cy="1430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86400" y="456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113600" y="81756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4720" y="2035080"/>
            <a:ext cx="8197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一个数的绝对值是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则这数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　　　　　     　　　　　　　　　             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3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0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　　　　 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.3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有理数的绝对值一定是正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a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b|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a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b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|a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必为负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　　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互为相反数的两个数的绝对值相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33640" y="312840"/>
            <a:ext cx="2620800" cy="852480"/>
            <a:chOff x="1133640" y="312840"/>
            <a:chExt cx="2620800" cy="852480"/>
          </a:xfrm>
        </p:grpSpPr>
        <p:sp>
          <p:nvSpPr>
            <p:cNvPr id="252" name=""/>
            <p:cNvSpPr/>
            <p:nvPr/>
          </p:nvSpPr>
          <p:spPr>
            <a:xfrm>
              <a:off x="1602000" y="3715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1133640" y="3128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739800" y="125892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判断下列说法是否正确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03800" y="2087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71320" y="25797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12840" y="31161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8920" y="56307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4760" y="41004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00680" y="36021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06760" y="4599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1600" y="51166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66040" y="387360"/>
            <a:ext cx="1523880" cy="1743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852480"/>
            <a:ext cx="7711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日常生活和生产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我们借助绝对值的意义可以判断某些产品质量的好差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你能回答下列问题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式排球比赛对所有排球的质量有严格的规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质量检测结果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正数记超过质量的克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负数记不足质量的克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指出哪个排球的质量好一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23720" y="49910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54120" y="2874960"/>
            <a:ext cx="8024760" cy="1477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正数大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于负数，正数大于负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两个负数，绝对值大的反而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817720" y="1177920"/>
            <a:ext cx="3838680" cy="782640"/>
            <a:chOff x="2817720" y="1177920"/>
            <a:chExt cx="3838680" cy="78264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5656320" y="117792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817720" y="129060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487600"/>
            <a:ext cx="77724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掌握绝对值的概念、有理数大小比较法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学会绝对值的计算、比较两个或多个有理数的大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52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16000" y="1684440"/>
            <a:ext cx="7962840" cy="4488840"/>
            <a:chOff x="216000" y="1684440"/>
            <a:chExt cx="7962840" cy="4488840"/>
          </a:xfrm>
        </p:grpSpPr>
        <p:sp>
          <p:nvSpPr>
            <p:cNvPr id="271" name=""/>
            <p:cNvSpPr/>
            <p:nvPr/>
          </p:nvSpPr>
          <p:spPr>
            <a:xfrm>
              <a:off x="216000" y="1684440"/>
              <a:ext cx="7962840" cy="42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____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3265___2.3266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3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.02___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2346480" y="3411360"/>
              <a:ext cx="45720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2330640" y="5254200"/>
              <a:ext cx="349200" cy="8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1328760" y="5297400"/>
              <a:ext cx="26676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961920" y="617400"/>
            <a:ext cx="77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学时学过比较数的大小吗？怎样比较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60800" y="178920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绝对值大的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70120" y="4560840"/>
            <a:ext cx="24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数大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38440" y="5543640"/>
            <a:ext cx="42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分后根据同分母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11840" y="2552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先比整数部分再比小数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70120" y="3639960"/>
            <a:ext cx="38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数与小数互化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03680" y="5703840"/>
            <a:ext cx="507960" cy="217440"/>
          </a:xfrm>
          <a:prstGeom prst="leftRightArrow">
            <a:avLst>
              <a:gd name="adj1" fmla="val 50000"/>
              <a:gd name="adj2" fmla="val 46722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71840" y="2867040"/>
            <a:ext cx="507960" cy="217440"/>
          </a:xfrm>
          <a:prstGeom prst="leftRightArrow">
            <a:avLst>
              <a:gd name="adj1" fmla="val 50000"/>
              <a:gd name="adj2" fmla="val 46722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06640" y="3782880"/>
            <a:ext cx="507960" cy="217800"/>
          </a:xfrm>
          <a:prstGeom prst="leftRightArrow">
            <a:avLst>
              <a:gd name="adj1" fmla="val 50000"/>
              <a:gd name="adj2" fmla="val 4664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94120" y="4707000"/>
            <a:ext cx="507960" cy="217440"/>
          </a:xfrm>
          <a:prstGeom prst="leftRightArrow">
            <a:avLst>
              <a:gd name="adj1" fmla="val 50000"/>
              <a:gd name="adj2" fmla="val 46722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47800" y="1963800"/>
            <a:ext cx="508320" cy="217440"/>
          </a:xfrm>
          <a:prstGeom prst="leftRightArrow">
            <a:avLst>
              <a:gd name="adj1" fmla="val 50000"/>
              <a:gd name="adj2" fmla="val 4675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66880" y="1690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11440" y="2598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494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24080" y="434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847880" y="5361120"/>
            <a:ext cx="29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281240" y="2987640"/>
            <a:ext cx="7007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正数，绝对值大的较大，正数大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74920" y="1109520"/>
            <a:ext cx="2770200" cy="947880"/>
            <a:chOff x="3274920" y="1109520"/>
            <a:chExt cx="2770200" cy="947880"/>
          </a:xfrm>
        </p:grpSpPr>
        <p:sp>
          <p:nvSpPr>
            <p:cNvPr id="293" name=""/>
            <p:cNvSpPr txBox="1"/>
            <p:nvPr/>
          </p:nvSpPr>
          <p:spPr>
            <a:xfrm>
              <a:off x="3274920" y="133344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138640" y="110952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66680" y="669960"/>
            <a:ext cx="75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观察下列数，你会比较他们的大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2179800"/>
            <a:ext cx="28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负数和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32018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正数和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91120" y="4389480"/>
            <a:ext cx="25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负数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91120" y="55785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正数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16120" y="2182680"/>
            <a:ext cx="29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___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080" y="3198960"/>
            <a:ext cx="18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____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4880" y="4287960"/>
            <a:ext cx="19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_____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5320" y="5530680"/>
            <a:ext cx="22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_____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02040" y="2362320"/>
            <a:ext cx="1035000" cy="358560"/>
          </a:xfrm>
          <a:prstGeom prst="leftRightArrow">
            <a:avLst>
              <a:gd name="adj1" fmla="val 50000"/>
              <a:gd name="adj2" fmla="val 5773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79720" y="3357720"/>
            <a:ext cx="1035360" cy="358560"/>
          </a:xfrm>
          <a:prstGeom prst="leftRightArrow">
            <a:avLst>
              <a:gd name="adj1" fmla="val 50000"/>
              <a:gd name="adj2" fmla="val 5775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79720" y="4508640"/>
            <a:ext cx="1035360" cy="358560"/>
          </a:xfrm>
          <a:prstGeom prst="leftRightArrow">
            <a:avLst>
              <a:gd name="adj1" fmla="val 50000"/>
              <a:gd name="adj2" fmla="val 5775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11760" y="5735520"/>
            <a:ext cx="1035000" cy="358920"/>
          </a:xfrm>
          <a:prstGeom prst="leftRightArrow">
            <a:avLst>
              <a:gd name="adj1" fmla="val 50000"/>
              <a:gd name="adj2" fmla="val 57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4880" y="19209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0600" y="286704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4880" y="39528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6240" y="524340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214720" y="1743120"/>
            <a:ext cx="1618920" cy="1066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967200" y="17431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61880" y="17431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5796000" y="1743120"/>
            <a:ext cx="1314360" cy="10666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7472520" y="1743120"/>
            <a:ext cx="1466640" cy="1066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19080" y="752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图表示某一天我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城市的最低气温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3152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武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℃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京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上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℃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℃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哈尔滨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428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：你能将上述五个城市的最低气温按从低到高的顺序依次排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9640" y="5087880"/>
            <a:ext cx="1523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哈尔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0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6160" y="5087880"/>
            <a:ext cx="1371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0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10040" y="5087880"/>
            <a:ext cx="1066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上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81640" y="5087880"/>
            <a:ext cx="1219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武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5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29560" y="5087880"/>
            <a:ext cx="1143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广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0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04920" y="5638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5120" y="5638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2444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9604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620040" y="2903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3192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00400" y="2903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70320" y="300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60480" y="300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55920" y="300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03680" y="300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32480" y="300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39960" y="1380960"/>
            <a:ext cx="73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轴上表示的两个数，右边的数总比左边的数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689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                               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51200" y="2705040"/>
            <a:ext cx="2971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3440160"/>
            <a:ext cx="36100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74640" y="3649680"/>
            <a:ext cx="6058080" cy="679320"/>
            <a:chOff x="1574640" y="3649680"/>
            <a:chExt cx="6058080" cy="679320"/>
          </a:xfrm>
        </p:grpSpPr>
        <p:sp>
          <p:nvSpPr>
            <p:cNvPr id="342" name=""/>
            <p:cNvSpPr/>
            <p:nvPr/>
          </p:nvSpPr>
          <p:spPr>
            <a:xfrm>
              <a:off x="1574640" y="3808440"/>
              <a:ext cx="605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   0    1     2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828800" y="3801960"/>
              <a:ext cx="4790880" cy="6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28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376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0496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480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9548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43600" y="3649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981000" y="59688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理数大小的比较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52680" y="4630680"/>
            <a:ext cx="304920" cy="608040"/>
          </a:xfrm>
          <a:prstGeom prst="downArrow">
            <a:avLst>
              <a:gd name="adj1" fmla="val 50000"/>
              <a:gd name="adj2" fmla="val 49852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4356000"/>
            <a:ext cx="304560" cy="882720"/>
          </a:xfrm>
          <a:prstGeom prst="downArrow">
            <a:avLst>
              <a:gd name="adj1" fmla="val 50000"/>
              <a:gd name="adj2" fmla="val 7245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4630680"/>
            <a:ext cx="304560" cy="608040"/>
          </a:xfrm>
          <a:prstGeom prst="downArrow">
            <a:avLst>
              <a:gd name="adj1" fmla="val 50000"/>
              <a:gd name="adj2" fmla="val 49911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529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14280" y="5359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73480" y="529128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55920" y="4356000"/>
            <a:ext cx="21225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74640" y="4356000"/>
            <a:ext cx="2376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03840" y="52610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13320" y="5283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4776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：比较下列各数的大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2760" y="3355920"/>
            <a:ext cx="7000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先化简，－（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（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＝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正数大于负数，所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&gt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（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（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12680" y="1744560"/>
            <a:ext cx="60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－（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和－（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29200" y="2009880"/>
            <a:ext cx="3111480" cy="1508040"/>
          </a:xfrm>
          <a:prstGeom prst="wedgeRoundRectCallout">
            <a:avLst>
              <a:gd name="adj1" fmla="val -45407"/>
              <a:gd name="adj2" fmla="val 116527"/>
              <a:gd name="adj3" fmla="val 16667"/>
            </a:avLst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号两数比较要考虑它们的正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86000" y="566640"/>
            <a:ext cx="2695320" cy="9493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265400" y="15717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两个负数做比较，先求它们的绝对值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131920" y="2247840"/>
            <a:ext cx="4599000" cy="4183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611680" y="4421160"/>
            <a:ext cx="3111480" cy="1508040"/>
          </a:xfrm>
          <a:prstGeom prst="wedgeRoundRectCallout">
            <a:avLst>
              <a:gd name="adj1" fmla="val -80814"/>
              <a:gd name="adj2" fmla="val -96208"/>
              <a:gd name="adj3" fmla="val 16667"/>
            </a:avLst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号两数比较要考虑它们的绝对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566640"/>
            <a:ext cx="38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负数相比较，绝对值大的反而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295280" y="728640"/>
            <a:ext cx="3378240" cy="990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228680" y="1922400"/>
            <a:ext cx="40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先化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2044800" y="2747880"/>
            <a:ext cx="4279680" cy="3098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869160" y="1249200"/>
            <a:ext cx="1498680" cy="149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93800" y="3002040"/>
            <a:ext cx="7646760" cy="132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正数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负数，正数大于负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 两个负数，绝对值大的反而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176640" y="1084320"/>
            <a:ext cx="2770200" cy="947520"/>
            <a:chOff x="3176640" y="1084320"/>
            <a:chExt cx="2770200" cy="947520"/>
          </a:xfrm>
        </p:grpSpPr>
        <p:sp>
          <p:nvSpPr>
            <p:cNvPr id="377" name=""/>
            <p:cNvSpPr txBox="1"/>
            <p:nvPr/>
          </p:nvSpPr>
          <p:spPr>
            <a:xfrm>
              <a:off x="3176640" y="130788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5040360" y="108432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424480" y="2116080"/>
            <a:ext cx="28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负数和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24480" y="3138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正数和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325760"/>
            <a:ext cx="25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负数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62720" y="55148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正数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87720" y="2119320"/>
            <a:ext cx="29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___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56040" y="313524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___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7560" y="4224240"/>
            <a:ext cx="15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___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46732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____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73640" y="2298600"/>
            <a:ext cx="1035000" cy="358920"/>
          </a:xfrm>
          <a:prstGeom prst="leftRightArrow">
            <a:avLst>
              <a:gd name="adj1" fmla="val 50000"/>
              <a:gd name="adj2" fmla="val 57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51320" y="3294000"/>
            <a:ext cx="1035000" cy="358920"/>
          </a:xfrm>
          <a:prstGeom prst="leftRightArrow">
            <a:avLst>
              <a:gd name="adj1" fmla="val 50000"/>
              <a:gd name="adj2" fmla="val 57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1320" y="4444920"/>
            <a:ext cx="1035000" cy="358920"/>
          </a:xfrm>
          <a:prstGeom prst="leftRightArrow">
            <a:avLst>
              <a:gd name="adj1" fmla="val 50000"/>
              <a:gd name="adj2" fmla="val 57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83000" y="5672160"/>
            <a:ext cx="1035000" cy="358920"/>
          </a:xfrm>
          <a:prstGeom prst="leftRightArrow">
            <a:avLst>
              <a:gd name="adj1" fmla="val 50000"/>
              <a:gd name="adj2" fmla="val 57673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20680" y="563400"/>
            <a:ext cx="76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次观察下列数，现在你会比较它们的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06720" y="20210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19360" y="30351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32120" y="4221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03320" y="54133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58840" y="2747880"/>
            <a:ext cx="1785960" cy="26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71560" y="2417760"/>
            <a:ext cx="78580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通会比较两个或多个有理数的大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与价值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体验数学的概念、法则来自于实际生活，渗透数形结合和分类思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56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711360" y="2022480"/>
            <a:ext cx="785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任意几个数比较大小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按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负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&lt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数，负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规定比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在数轴上找出每个数，观察它们从左到右的顺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93920" y="636480"/>
            <a:ext cx="2770200" cy="947880"/>
            <a:chOff x="3193920" y="636480"/>
            <a:chExt cx="2770200" cy="947880"/>
          </a:xfrm>
        </p:grpSpPr>
        <p:sp>
          <p:nvSpPr>
            <p:cNvPr id="399" name=""/>
            <p:cNvSpPr txBox="1"/>
            <p:nvPr/>
          </p:nvSpPr>
          <p:spPr>
            <a:xfrm>
              <a:off x="3193920" y="8604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5057640" y="63648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7621560" y="244440"/>
            <a:ext cx="1231920" cy="1778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15920" y="1603440"/>
            <a:ext cx="68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连接下面的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1320" y="2593800"/>
            <a:ext cx="75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3___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 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5___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7 ___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             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3 ___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3|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7| ___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；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|2| 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176480" y="507960"/>
            <a:ext cx="2620800" cy="852480"/>
            <a:chOff x="1176480" y="507960"/>
            <a:chExt cx="2620800" cy="852480"/>
          </a:xfrm>
        </p:grpSpPr>
        <p:sp>
          <p:nvSpPr>
            <p:cNvPr id="405" name=""/>
            <p:cNvSpPr/>
            <p:nvPr/>
          </p:nvSpPr>
          <p:spPr>
            <a:xfrm>
              <a:off x="1644840" y="5666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1176480" y="5079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2411280" y="48052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29080" y="48052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07200" y="3652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54400" y="25750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92040" y="25891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1040" y="36813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19160" y="174456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有理数大小比较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2666880"/>
            <a:ext cx="7704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负数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&lt;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正数，负数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正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两负数相比较，绝对值大的反而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将数在数轴上表示，按从左到右的顺序排列，即是数从小到大的顺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043080" y="608040"/>
            <a:ext cx="2770200" cy="947880"/>
            <a:chOff x="3043080" y="608040"/>
            <a:chExt cx="2770200" cy="947880"/>
          </a:xfrm>
        </p:grpSpPr>
        <p:sp>
          <p:nvSpPr>
            <p:cNvPr id="416" name=""/>
            <p:cNvSpPr txBox="1"/>
            <p:nvPr/>
          </p:nvSpPr>
          <p:spPr>
            <a:xfrm>
              <a:off x="3043080" y="83196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4906800" y="608040"/>
              <a:ext cx="90648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82720" y="2082960"/>
            <a:ext cx="7504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．数轴上表示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点与原点的距离叫做数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绝对值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．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≥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如果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如果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－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如果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84120" y="142920"/>
            <a:ext cx="2849400" cy="1709640"/>
            <a:chOff x="3084120" y="142920"/>
            <a:chExt cx="2849400" cy="1709640"/>
          </a:xfrm>
        </p:grpSpPr>
        <p:sp>
          <p:nvSpPr>
            <p:cNvPr id="420" name="filecab3"/>
            <p:cNvSpPr/>
            <p:nvPr/>
          </p:nvSpPr>
          <p:spPr>
            <a:xfrm rot="10800000">
              <a:off x="3084120" y="10141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3701880" y="14292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39920" y="1324080"/>
            <a:ext cx="61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有理数大小比较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3880" y="2362320"/>
            <a:ext cx="76485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负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正数，负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正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两负数相比较，绝对值大的反而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将数在数轴上表示，按从左到右的顺序排列，即是数从小到大的顺序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3198600" y="15840"/>
            <a:ext cx="2849400" cy="1709640"/>
            <a:chOff x="3198600" y="15840"/>
            <a:chExt cx="2849400" cy="1709640"/>
          </a:xfrm>
        </p:grpSpPr>
        <p:sp>
          <p:nvSpPr>
            <p:cNvPr id="425" name="filecab3"/>
            <p:cNvSpPr/>
            <p:nvPr/>
          </p:nvSpPr>
          <p:spPr>
            <a:xfrm rot="10800000">
              <a:off x="3198600" y="8870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3816360" y="1584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>
            <a:off x="1547640" y="2274840"/>
            <a:ext cx="66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下列说法正确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2240" y="2876400"/>
            <a:ext cx="77709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Ａ．有理数的绝对值一定是正数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Ｂ．如果两个数的绝对值相等，那么这两个数相等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Ｃ．符号相反且绝对值相等的数互为相反数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Ｄ．一个数的绝对值越大，表示它的点在数轴上离原点越近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42320" y="2252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1619280"/>
            <a:ext cx="77932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|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则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一个数的绝对值等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5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这个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４．如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|=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=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５．如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8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|a| =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64640" y="1619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52840" y="2297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01040" y="340848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5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9120" y="40417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9560" y="51973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7723080" y="682560"/>
            <a:ext cx="952560" cy="71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9480" y="108900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将下列这些数按从小到大的顺序排列，并用＜连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33440" y="26067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5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－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|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41280" y="4551480"/>
            <a:ext cx="617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9480" y="480384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|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 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 －（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5|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60360" y="3332160"/>
            <a:ext cx="1576440" cy="11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143000" y="1015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已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&gt;4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|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|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|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43080" y="2433600"/>
            <a:ext cx="7173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因为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  所以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&gt;0,  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     所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|+ |4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7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2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7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2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158840" y="1440000"/>
            <a:ext cx="75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| + |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|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48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8840" y="2671920"/>
            <a:ext cx="7250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|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 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, 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4, 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×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649440" y="51832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5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71720" y="2638440"/>
            <a:ext cx="654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绝对值的概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负数大小的比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85680" y="372960"/>
            <a:ext cx="3551400" cy="1692000"/>
            <a:chOff x="2785680" y="372960"/>
            <a:chExt cx="3551400" cy="1692000"/>
          </a:xfrm>
        </p:grpSpPr>
        <p:sp>
          <p:nvSpPr>
            <p:cNvPr id="60" name="filecab3"/>
            <p:cNvSpPr/>
            <p:nvPr/>
          </p:nvSpPr>
          <p:spPr>
            <a:xfrm rot="10800000">
              <a:off x="2785680" y="122616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3774960" y="37296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71720" y="3429000"/>
            <a:ext cx="1299960" cy="1492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019160" y="2031840"/>
            <a:ext cx="7099200" cy="2068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950760" y="40244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139560" y="0"/>
            <a:ext cx="2849400" cy="1709640"/>
            <a:chOff x="3139560" y="0"/>
            <a:chExt cx="2849400" cy="1709640"/>
          </a:xfrm>
        </p:grpSpPr>
        <p:sp>
          <p:nvSpPr>
            <p:cNvPr id="451" name="filecab3"/>
            <p:cNvSpPr/>
            <p:nvPr/>
          </p:nvSpPr>
          <p:spPr>
            <a:xfrm rot="10800000">
              <a:off x="31395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习题答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" descr=""/>
            <p:cNvPicPr/>
            <p:nvPr/>
          </p:nvPicPr>
          <p:blipFill>
            <a:blip r:embed="rId3"/>
            <a:stretch/>
          </p:blipFill>
          <p:spPr>
            <a:xfrm>
              <a:off x="37573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501480" y="4384800"/>
            <a:ext cx="8153280" cy="1614600"/>
            <a:chOff x="501480" y="4384800"/>
            <a:chExt cx="8153280" cy="1614600"/>
          </a:xfrm>
        </p:grpSpPr>
        <p:grpSp>
          <p:nvGrpSpPr>
            <p:cNvPr id="454" name=""/>
            <p:cNvGrpSpPr/>
            <p:nvPr/>
          </p:nvGrpSpPr>
          <p:grpSpPr>
            <a:xfrm>
              <a:off x="501480" y="5279760"/>
              <a:ext cx="8153280" cy="719640"/>
              <a:chOff x="501480" y="5279760"/>
              <a:chExt cx="8153280" cy="719640"/>
            </a:xfrm>
          </p:grpSpPr>
          <p:sp>
            <p:nvSpPr>
              <p:cNvPr id="455" name=""/>
              <p:cNvSpPr/>
              <p:nvPr/>
            </p:nvSpPr>
            <p:spPr>
              <a:xfrm>
                <a:off x="501480" y="5434920"/>
                <a:ext cx="7924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26160" y="543492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6400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48360" y="541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60960" y="541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2556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1124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4940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0720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9280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527976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75360" y="541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89760" y="541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40360" y="541800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02280" y="541800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63840" y="541800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5301720"/>
                <a:ext cx="0" cy="13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110960" y="5287320"/>
                <a:ext cx="0" cy="14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7200" y="541800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29640" y="541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094000" y="52830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47480" y="52797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63600" y="52876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51080" y="52876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3960" y="476064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41160" y="47289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7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4"/>
            <a:stretch/>
          </p:blipFill>
          <p:spPr>
            <a:xfrm>
              <a:off x="2844720" y="4384800"/>
              <a:ext cx="57132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5"/>
            <a:stretch/>
          </p:blipFill>
          <p:spPr>
            <a:xfrm>
              <a:off x="4862520" y="4425840"/>
              <a:ext cx="266400" cy="87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newsflash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042920" y="379440"/>
            <a:ext cx="5184720" cy="107460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525600" y="1674720"/>
            <a:ext cx="8153280" cy="1492920"/>
            <a:chOff x="525600" y="1674720"/>
            <a:chExt cx="8153280" cy="1492920"/>
          </a:xfrm>
        </p:grpSpPr>
        <p:pic>
          <p:nvPicPr>
            <p:cNvPr id="485" name="" descr=""/>
            <p:cNvPicPr/>
            <p:nvPr/>
          </p:nvPicPr>
          <p:blipFill>
            <a:blip r:embed="rId3"/>
            <a:stretch/>
          </p:blipFill>
          <p:spPr>
            <a:xfrm>
              <a:off x="2298960" y="1674720"/>
              <a:ext cx="4809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4"/>
            <a:stretch/>
          </p:blipFill>
          <p:spPr>
            <a:xfrm>
              <a:off x="3878280" y="1674720"/>
              <a:ext cx="4287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5"/>
            <a:stretch/>
          </p:blipFill>
          <p:spPr>
            <a:xfrm>
              <a:off x="6384960" y="1790640"/>
              <a:ext cx="19692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6"/>
            <a:stretch/>
          </p:blipFill>
          <p:spPr>
            <a:xfrm>
              <a:off x="4631040" y="1674720"/>
              <a:ext cx="20772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518440" y="18716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525600" y="2448000"/>
              <a:ext cx="8153280" cy="719640"/>
              <a:chOff x="525600" y="2448000"/>
              <a:chExt cx="8153280" cy="719640"/>
            </a:xfrm>
          </p:grpSpPr>
          <p:sp>
            <p:nvSpPr>
              <p:cNvPr id="491" name=""/>
              <p:cNvSpPr/>
              <p:nvPr/>
            </p:nvSpPr>
            <p:spPr>
              <a:xfrm>
                <a:off x="525600" y="2603160"/>
                <a:ext cx="7924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50280" y="260316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8812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72480" y="2586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85080" y="2586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4968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3536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7352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23132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1692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02520" y="2448000"/>
                <a:ext cx="0" cy="15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99480" y="2586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3880" y="2586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264480" y="25862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6400" y="25862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87960" y="25862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069400" y="2469960"/>
                <a:ext cx="0" cy="13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135080" y="2455560"/>
                <a:ext cx="0" cy="14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1320" y="25862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53760" y="2586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2538720" y="24447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65760" y="243504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43920" y="24447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91080" y="183348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53120" y="2446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59880" y="187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80080" y="243504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19840" y="24336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29240" y="24336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831960" y="3700440"/>
            <a:ext cx="7618320" cy="21067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8"/>
          <a:stretch/>
        </p:blipFill>
        <p:spPr>
          <a:xfrm>
            <a:off x="7264440" y="461880"/>
            <a:ext cx="1736640" cy="18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257480" y="865080"/>
            <a:ext cx="6737040" cy="21211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96760" y="2986200"/>
            <a:ext cx="78757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1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8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 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4 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最右边的球最接近标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所给增幅中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小，增幅为负说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均水资源是减少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911160" y="487440"/>
            <a:ext cx="7846920" cy="5102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7640" y="776160"/>
            <a:ext cx="7804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甲乙两辆车从某一汽车总站开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甲车向东行驶３千米后停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车向西行驶３千米后停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9320" y="2478240"/>
            <a:ext cx="7772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何用有理数表示它们的行驶情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两个有理数有什么关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68440" y="4645080"/>
            <a:ext cx="8153280" cy="719640"/>
            <a:chOff x="568440" y="4645080"/>
            <a:chExt cx="8153280" cy="719640"/>
          </a:xfrm>
        </p:grpSpPr>
        <p:sp>
          <p:nvSpPr>
            <p:cNvPr id="66" name=""/>
            <p:cNvSpPr/>
            <p:nvPr/>
          </p:nvSpPr>
          <p:spPr>
            <a:xfrm>
              <a:off x="568440" y="4800240"/>
              <a:ext cx="792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93120" y="48002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096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15320" y="4783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27920" y="4783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9252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7820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1636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7416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5976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45360" y="464508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42320" y="4783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56720" y="4783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07320" y="47833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69240" y="47833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30800" y="47833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2240" y="4667040"/>
              <a:ext cx="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7920" y="4652640"/>
              <a:ext cx="0" cy="14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4160" y="47833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96600" y="4783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143840" y="46497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73440" y="46450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7080" y="384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44200" y="3828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9080" y="40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8560" y="40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16000" y="436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73800" y="4348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37080" y="4387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92520" y="45212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015640" y="4521240"/>
            <a:ext cx="86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56160" y="4521240"/>
            <a:ext cx="860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59400" y="45356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30680" y="420516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52920" y="42148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28800" y="5421240"/>
            <a:ext cx="66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两个有理数互为相反数，到原点的距离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5597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兔子和狗在数轴上的位置互为相反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66760"/>
            <a:ext cx="4002120" cy="1482840"/>
          </a:xfrm>
          <a:prstGeom prst="cloudCallout">
            <a:avLst>
              <a:gd name="adj1" fmla="val -26833"/>
              <a:gd name="adj2" fmla="val 105782"/>
            </a:avLst>
          </a:prstGeom>
          <a:solidFill>
            <a:srgbClr val="cc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距原点的距离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16680" y="266760"/>
            <a:ext cx="3717720" cy="1482840"/>
          </a:xfrm>
          <a:prstGeom prst="cloudCallout">
            <a:avLst>
              <a:gd name="adj1" fmla="val -5249"/>
              <a:gd name="adj2" fmla="val 103319"/>
            </a:avLst>
          </a:prstGeom>
          <a:solidFill>
            <a:srgbClr val="cc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距原点的距离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80" y="4151160"/>
            <a:ext cx="83581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何用有理数表示兔子与狗的位置情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两个有理数有什么关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28600" y="2543040"/>
            <a:ext cx="6985080" cy="1418040"/>
            <a:chOff x="1128600" y="2543040"/>
            <a:chExt cx="6985080" cy="1418040"/>
          </a:xfrm>
        </p:grpSpPr>
        <p:grpSp>
          <p:nvGrpSpPr>
            <p:cNvPr id="107" name=""/>
            <p:cNvGrpSpPr/>
            <p:nvPr/>
          </p:nvGrpSpPr>
          <p:grpSpPr>
            <a:xfrm>
              <a:off x="1128600" y="2543040"/>
              <a:ext cx="6985080" cy="1418040"/>
              <a:chOff x="1128600" y="2543040"/>
              <a:chExt cx="6985080" cy="1418040"/>
            </a:xfrm>
          </p:grpSpPr>
          <p:sp>
            <p:nvSpPr>
              <p:cNvPr id="108" name=""/>
              <p:cNvSpPr/>
              <p:nvPr/>
            </p:nvSpPr>
            <p:spPr>
              <a:xfrm>
                <a:off x="1128600" y="3308040"/>
                <a:ext cx="698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415296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94496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696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52932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32132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36204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57004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849320" y="3236760"/>
                <a:ext cx="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63880" y="3379680"/>
                <a:ext cx="6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55880" y="3379680"/>
                <a:ext cx="6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76600" y="3379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68960" y="3379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60960" y="3379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55880" y="33796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－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92240" y="33796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－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71520" y="33796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－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089400" y="2606400"/>
                <a:ext cx="91440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1369800" y="2543040"/>
                <a:ext cx="838440" cy="836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1718280" y="3162240"/>
              <a:ext cx="24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4400" y="3165480"/>
              <a:ext cx="24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5960" y="860400"/>
            <a:ext cx="813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互为相反数，把它们在数轴上表示出来，它们有什么相同之处和不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921120"/>
            <a:ext cx="8218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数轴上所表示的点到原点的距离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单位长度，它们的符号不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把这个距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绝对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196600" y="1832400"/>
            <a:ext cx="284400" cy="2317680"/>
          </a:xfrm>
          <a:custGeom>
            <a:avLst/>
            <a:gdLst>
              <a:gd name="textAreaLeft" fmla="*/ 181800 w 284400"/>
              <a:gd name="textAreaRight" fmla="*/ 284760 w 284400"/>
              <a:gd name="textAreaTop" fmla="*/ 60120 h 2317680"/>
              <a:gd name="textAreaBottom" fmla="*/ 2257560 h 23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24004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6600" y="22557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909160" y="1858680"/>
            <a:ext cx="144720" cy="234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60840 h 2341800"/>
              <a:gd name="textAreaBottom" fmla="*/ 2280960 h 234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28600" y="3236760"/>
            <a:ext cx="6985080" cy="724320"/>
            <a:chOff x="1128600" y="3236760"/>
            <a:chExt cx="6985080" cy="724320"/>
          </a:xfrm>
        </p:grpSpPr>
        <p:sp>
          <p:nvSpPr>
            <p:cNvPr id="136" name=""/>
            <p:cNvSpPr/>
            <p:nvPr/>
          </p:nvSpPr>
          <p:spPr>
            <a:xfrm>
              <a:off x="1128600" y="3308040"/>
              <a:ext cx="698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15296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94496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73696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2932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32132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36204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57004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849320" y="3236760"/>
              <a:ext cx="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63880" y="337968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880" y="337968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76600" y="33796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68960" y="33796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60960" y="33796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55880" y="337968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2240" y="337968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1520" y="337968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718280" y="31622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4760" y="315108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787480"/>
            <a:ext cx="7570800" cy="14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般地，数轴上表示数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点与原点的距离叫做数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绝对值，记做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|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|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970360" y="1006560"/>
            <a:ext cx="3837960" cy="782640"/>
            <a:chOff x="2970360" y="1006560"/>
            <a:chExt cx="3837960" cy="7826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808600" y="100656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970360" y="1119240"/>
              <a:ext cx="266184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1600" y="2209680"/>
            <a:ext cx="73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互为相反数的两个数的绝对值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36760" y="3979800"/>
            <a:ext cx="7169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对相反数虽然分别在原点两边，但它们到原点的距离是相等的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54280" y="490680"/>
            <a:ext cx="3519360" cy="1185840"/>
            <a:chOff x="2654280" y="490680"/>
            <a:chExt cx="3519360" cy="11858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5221440" y="4906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Cloud"/>
            <p:cNvSpPr/>
            <p:nvPr/>
          </p:nvSpPr>
          <p:spPr>
            <a:xfrm>
              <a:off x="2654280" y="4906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174840" y="6429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98360" y="4151160"/>
            <a:ext cx="1438200" cy="1503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33:39Z</dcterms:created>
  <dc:creator/>
  <dc:description/>
  <cp:keywords/>
  <dc:language>en-US</dc:language>
  <cp:lastModifiedBy>微软用户</cp:lastModifiedBy>
  <dcterms:modified xsi:type="dcterms:W3CDTF">2014-06-30T00:55:46Z</dcterms:modified>
  <cp:revision>50</cp:revision>
  <dc:subject/>
  <dc:title>1.2.4 绝对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92150000000000010250600207f7000400038000</vt:lpwstr>
  </property>
</Properties>
</file>